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2"/>
          <a:srcRect l="0" t="15176" r="0" b="0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724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微软繁细圆"/>
                <a:ea typeface="微软繁细圆"/>
              </a:rPr>
              <a:t>欢迎您参加我们的聚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微软繁细圆"/>
                <a:ea typeface="微软繁细圆"/>
              </a:rPr>
              <a:t>周五查经 主日聚会 祷告会 户外活动 特别聚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214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09142"/>
                </a:solidFill>
                <a:latin typeface="微软繁细圆"/>
                <a:ea typeface="微软繁细圆"/>
              </a:rPr>
              <a:t>教会网站：</a:t>
            </a:r>
            <a:r>
              <a:rPr b="1" lang="en-US" sz="1400" spc="-1" strike="noStrike">
                <a:solidFill>
                  <a:srgbClr val="e09142"/>
                </a:solidFill>
                <a:latin typeface="微软繁细圆"/>
                <a:ea typeface="微软繁细圆"/>
              </a:rPr>
              <a:t>oxfordchinesechurch.o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15176" r="0" b="0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60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      </a:t>
            </a:r>
            <a:r>
              <a:rPr b="1" lang="en-US" sz="1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Chinese Christian Fellowship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15176" r="0" b="0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2520" y="822240"/>
            <a:ext cx="8778960" cy="6035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78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1460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      </a:t>
            </a:r>
            <a:r>
              <a:rPr b="1" lang="en-US" sz="1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Chinese Christian Fellowship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15176" r="0" b="0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520" y="822240"/>
            <a:ext cx="8778960" cy="6035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477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1460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      </a:t>
            </a:r>
            <a:r>
              <a:rPr b="1" lang="en-US" sz="1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Chinese Christian Fellowship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15176" r="0" b="0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2520" y="822240"/>
            <a:ext cx="8778960" cy="6035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4647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1460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      </a:t>
            </a:r>
            <a:r>
              <a:rPr b="1" lang="en-US" sz="1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Chinese Christian Fellowship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5176" r="0" b="0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520" y="822240"/>
            <a:ext cx="8778960" cy="603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115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1460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      </a:t>
            </a:r>
            <a:r>
              <a:rPr b="1" lang="en-US" sz="1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Chinese Christian Fellowship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5176" r="0" b="0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520" y="822240"/>
            <a:ext cx="8778960" cy="603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821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1460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      </a:t>
            </a:r>
            <a:r>
              <a:rPr b="1" lang="en-US" sz="1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Chinese Christian Fellowship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5176" r="0" b="0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OXFORD</a:t>
            </a:r>
            <a:r>
              <a:rPr b="1" lang="en-US" sz="2400" spc="-1" strike="noStrike">
                <a:solidFill>
                  <a:srgbClr val="ffffff"/>
                </a:solidFill>
                <a:latin typeface="微软繁细圆"/>
                <a:ea typeface="微软繁细圆"/>
              </a:rPr>
              <a:t>华人基督徒团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2520" y="822240"/>
            <a:ext cx="8778960" cy="6035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632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9:25:52Z</dcterms:created>
  <dc:creator> </dc:creator>
  <dc:description/>
  <dc:language>en-US</dc:language>
  <cp:lastModifiedBy>Lamb</cp:lastModifiedBy>
  <dcterms:modified xsi:type="dcterms:W3CDTF">2009-05-29T20:59:17Z</dcterms:modified>
  <cp:revision>2868</cp:revision>
  <dc:subject/>
  <dc:title>PowerPoint Presentation</dc:title>
</cp:coreProperties>
</file>